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86F-3333-443E-B37F-04546236CD2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B61-4831-4C61-B51F-8D0330EF9F5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152-6475-474A-B6A1-6DBDBE5D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4E2-65C5-4CEC-BA1E-6589E3DE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0D9-E788-4928-B408-CF2A94FF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5A6-A0F3-4110-92A8-7E161098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8E0-81B2-4F30-B0F8-22A0F9B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4EE-7055-43C7-82AD-964594B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FD1-6C0D-4742-A3BA-148BDA88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50F-CABA-4668-9EA3-F4E26A1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6B9-4416-4A7B-832B-663CEE0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235-9499-4CD3-A141-BD325BF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96F-77B5-44F6-8E34-4115667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F30-92C4-4AFF-B7F8-7B98265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F85-C4AC-4F40-916C-010DC53CFB8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92000" y="2637000"/>
            <a:ext cx="76694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МУНСКА ОСНОВА ОБОЉЕЊА ШТИТАСТЕ ЖЛЕЗДЕ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92000" y="8143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НАСТАВНА ЈЕДИНИЦА 10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59000" y="5077440"/>
            <a:ext cx="582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Етиологија, имунопатогенеза и имунотерапија: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Graves-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ове болести;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Hashimoto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вог тирeоидитиса;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Етиологија и имунопатогенеза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iabetes mellitus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а тип 1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мунотерапија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iabetes mellitus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а тип 1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188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D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D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DR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TPN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422100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Фактори околине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enterocolitic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антигенска мимикрија)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трес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gdiseasefigure6"/>
          <p:cNvPicPr/>
          <p:nvPr/>
        </p:nvPicPr>
        <p:blipFill>
          <a:blip r:embed="rId1"/>
          <a:stretch/>
        </p:blipFill>
        <p:spPr>
          <a:xfrm>
            <a:off x="0" y="907920"/>
            <a:ext cx="4859280" cy="595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272200" y="1687680"/>
            <a:ext cx="2790720" cy="4351320"/>
          </a:xfrm>
          <a:prstGeom prst="rect">
            <a:avLst/>
          </a:prstGeom>
          <a:ln w="0">
            <a:noFill/>
          </a:ln>
        </p:spPr>
      </p:pic>
      <p:sp>
        <p:nvSpPr>
          <p:cNvPr id="70" name="Line 10"/>
          <p:cNvSpPr/>
          <p:nvPr/>
        </p:nvSpPr>
        <p:spPr>
          <a:xfrm>
            <a:off x="1403280" y="2637000"/>
            <a:ext cx="289080" cy="158400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116000" y="3645000"/>
            <a:ext cx="576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Garamond"/>
              </a:rPr>
              <a:t>CD4</a:t>
            </a:r>
            <a:r>
              <a:rPr b="1" lang="sr-CS" sz="1000" spc="-1" strike="noStrike">
                <a:solidFill>
                  <a:srgbClr val="eeece1"/>
                </a:solidFill>
                <a:latin typeface="Garamond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8100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Palatino Linotype"/>
              </a:rPr>
              <a:t>Тиреостимулишући хормонски рецептор (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1" lang="sr-CS" sz="2600" spc="-1" strike="noStrike">
                <a:solidFill>
                  <a:srgbClr val="000000"/>
                </a:solidFill>
                <a:latin typeface="Palatino Linotype"/>
              </a:rPr>
              <a:t>) </a:t>
            </a:r>
            <a:r>
              <a:rPr b="1" lang="sr-CS" sz="2600" spc="-1" strike="noStrike">
                <a:solidFill>
                  <a:srgbClr val="ff0000"/>
                </a:solidFill>
                <a:latin typeface="Palatino Linotype"/>
              </a:rPr>
              <a:t>игра важну улогу у регулацији раста и диференцијацији штитасте жлез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А –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стимулишућ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-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хипертире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Б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- 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блокирајућ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CS" sz="2400" spc="-1" strike="noStrike">
                <a:solidFill>
                  <a:srgbClr val="00cc00"/>
                </a:solidFill>
                <a:latin typeface="Palatino Linotype"/>
              </a:rPr>
              <a:t>хипотире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питоп Ц -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неутрална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NAb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5603760"/>
            <a:ext cx="91440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Тиреоидна пероксидаза (</a:t>
            </a:r>
            <a:r>
              <a:rPr b="1" lang="en-US" sz="2700" spc="-1" strike="noStrike">
                <a:solidFill>
                  <a:srgbClr val="000000"/>
                </a:solidFill>
                <a:latin typeface="Palatino Linotype"/>
              </a:rPr>
              <a:t>TPO</a:t>
            </a: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) -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 </a:t>
            </a:r>
            <a:r>
              <a:rPr b="0" lang="sr-Latn-CS" sz="2700" spc="-1" strike="noStrike">
                <a:solidFill>
                  <a:srgbClr val="000000"/>
                </a:solidFill>
                <a:latin typeface="Palatino Linotype"/>
              </a:rPr>
              <a:t>TPO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тела</a:t>
            </a:r>
            <a:endParaRPr b="0" lang="en-US" sz="27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75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Palatino Linotype"/>
              </a:rPr>
              <a:t>Тиреоглобулин - 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анти </a:t>
            </a:r>
            <a:r>
              <a:rPr b="0" lang="sr-Latn-CS" sz="2700" spc="-1" strike="noStrike">
                <a:solidFill>
                  <a:srgbClr val="000000"/>
                </a:solidFill>
                <a:latin typeface="Palatino Linotype"/>
              </a:rPr>
              <a:t>Tg</a:t>
            </a:r>
            <a:r>
              <a:rPr b="0" lang="sr-CS" sz="2700" spc="-1" strike="noStrike">
                <a:solidFill>
                  <a:srgbClr val="000000"/>
                </a:solidFill>
                <a:latin typeface="Palatino Linotype"/>
              </a:rPr>
              <a:t> антитела</a:t>
            </a:r>
            <a:endParaRPr b="0" lang="en-US" sz="27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Инфилтрација лимфоцита у штитастој жлезди код </a:t>
            </a:r>
            <a:r>
              <a:rPr b="0" i="1" lang="sr-Latn-CS" sz="3200" spc="-1" strike="noStrike">
                <a:solidFill>
                  <a:srgbClr val="000000"/>
                </a:solidFill>
                <a:latin typeface="Palatino Linotype"/>
              </a:rPr>
              <a:t>Graves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-ов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88080" y="3068640"/>
            <a:ext cx="3355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Palatino Linotype"/>
              </a:rPr>
              <a:t>CD4&gt;CD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Palatino Linotype"/>
              </a:rPr>
              <a:t>B</a:t>
            </a:r>
            <a:r>
              <a:rPr b="0" lang="sr-CS" sz="3200" spc="-1" strike="noStrike">
                <a:solidFill>
                  <a:srgbClr val="898989"/>
                </a:solidFill>
                <a:latin typeface="Palatino Linotype"/>
              </a:rPr>
              <a:t> лимфоц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000p043y"/>
          <p:cNvPicPr/>
          <p:nvPr/>
        </p:nvPicPr>
        <p:blipFill>
          <a:blip r:embed="rId1"/>
          <a:stretch/>
        </p:blipFill>
        <p:spPr>
          <a:xfrm>
            <a:off x="539640" y="1989000"/>
            <a:ext cx="525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4760" y="16308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7760" y="1228680"/>
            <a:ext cx="56023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Palatino Linotype"/>
              </a:rPr>
              <a:t>Егзофталмус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збоченост очних јабучица настала као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резултат два патолошка процеса: миозитис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мишића очију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раће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инфилтрацијом лимфоцит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и пролиферације ретроорбиталног тк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Palatino Linotype"/>
              </a:rPr>
              <a:t>Претибијални микседем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ј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асно ограничено, поткожно задебљање на антеро-латералној страни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тколениц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 Оток је тврд, а кожа сјајна и црвенкасто смеђ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2a.jpg (23211 bytes)"/>
          <p:cNvPicPr/>
          <p:nvPr/>
        </p:nvPicPr>
        <p:blipFill>
          <a:blip r:embed="rId1"/>
          <a:stretch/>
        </p:blipFill>
        <p:spPr>
          <a:xfrm>
            <a:off x="6119640" y="138744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t3.gstatic.com/images?q=tbn:ANd9GcS7805Nf_v16tkvKbQg5nQp8snSk-Uf4e2LK9rtoQ6Ig2Rhsr-D"/>
          <p:cNvPicPr/>
          <p:nvPr/>
        </p:nvPicPr>
        <p:blipFill>
          <a:blip r:embed="rId2"/>
          <a:stretch/>
        </p:blipFill>
        <p:spPr>
          <a:xfrm>
            <a:off x="6164280" y="4192560"/>
            <a:ext cx="297972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5160" y="1379520"/>
            <a:ext cx="7398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Дифузно увећање тиреоидне жлез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убитак тежине уз појачан ап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Палп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толеранција топл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Тремор руку, црвенило дл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 5-10% могућа је офталмопат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огућ је губитак ко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исоке вредности слободног Т3 и Т4 уз скоро немерљив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д старијих особа је могуће повећање нивоа слободног Т3 уз нормалан слободан Т4 и немерљив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HR-stimulating antibody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SAb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);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лтразвук тиреоид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цинтиграфија са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 Linotype"/>
              </a:rPr>
              <a:t>99−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 Linotype"/>
              </a:rPr>
              <a:t>123−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може да покаже дистрибуцију функционалног ткива жлез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Лечењ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ковима: пропилтиоурацил, метимаз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(примена јода уз антитиреоидну терапију узрокује чешће релапсе боле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Радиоктивним ј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Хируршко ле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Palatino Linotype"/>
              </a:rPr>
              <a:t>Hashimoto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ов тиреоидити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Постпартални тиреоидит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енетск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53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Аутоимунске болести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ритерију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Идентификовани аутоантигени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Утврђена антитела која реагују са антиг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Утврђена инфилтрација циљног ткива мононуклеарним ћел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Остварен пасиван трансфер болести лимфоцитима или серумом у експреименталном моде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333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re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21300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Фактори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околине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Rubella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, HCV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хормони – естроген..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трес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леков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4"/>
          <p:cNvGraphicFramePr/>
          <p:nvPr/>
        </p:nvGraphicFramePr>
        <p:xfrm>
          <a:off x="0" y="1197000"/>
          <a:ext cx="66596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6596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f497d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767640" y="2349360"/>
            <a:ext cx="2376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Т лимф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В лимф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лазмоци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акрофаги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0" y="981000"/>
          <a:ext cx="363528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363528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5" descr="nri750-f2"/>
          <p:cNvPicPr/>
          <p:nvPr/>
        </p:nvPicPr>
        <p:blipFill>
          <a:blip r:embed="rId3"/>
          <a:stretch/>
        </p:blipFill>
        <p:spPr>
          <a:xfrm>
            <a:off x="3492360" y="981000"/>
            <a:ext cx="565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ri750-f4"/>
          <p:cNvPicPr/>
          <p:nvPr/>
        </p:nvPicPr>
        <p:blipFill>
          <a:blip r:embed="rId4"/>
          <a:stretch/>
        </p:blipFill>
        <p:spPr>
          <a:xfrm>
            <a:off x="3492360" y="3789360"/>
            <a:ext cx="565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Имуно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4000" y="1916280"/>
            <a:ext cx="85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Имунски комплекс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Терминалне компоненте комплемент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рминативни центр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утоимунски хипотиреоиди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Термин који означава инсуфицијентну функцију штитасте жлезде која је настала као последица аутоимунског оштећења ткива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Најчешће се јавља као хронични или лимфоцитни тиреоидитис (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Hashimoto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-ов тиреоидити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Palatino Linotype"/>
              </a:rPr>
              <a:t>Аутоимунски хипотиреоиди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926720"/>
            <a:ext cx="446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еподношење хладно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Зат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Ослабљено памћ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спорени ментални проце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индроми укљештења не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Ата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ишићна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ишићни грч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оремећаји менстру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1926720"/>
            <a:ext cx="44989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ијастолна 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тр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Периорбитални ед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ува, хладна, перутава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Хиперкаротин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обијање у теж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стика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36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Позитивна циркулишућа аутоантитела на ТРО (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тела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и тиреоглобулин (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g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 антитела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уз хипоехогену слику тиреоидне жлезде су главни показатељи аутоимунског хипотиреоидиз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Сцинти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Биопсија – оксифилне ћел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c21_s40"/>
          <p:cNvPicPr/>
          <p:nvPr/>
        </p:nvPicPr>
        <p:blipFill>
          <a:blip r:embed="rId1"/>
          <a:stretch/>
        </p:blipFill>
        <p:spPr>
          <a:xfrm>
            <a:off x="5526000" y="1484280"/>
            <a:ext cx="3618000" cy="201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ain"/>
          <p:cNvPicPr/>
          <p:nvPr/>
        </p:nvPicPr>
        <p:blipFill>
          <a:blip r:embed="rId2"/>
          <a:stretch/>
        </p:blipFill>
        <p:spPr>
          <a:xfrm>
            <a:off x="5435640" y="3762360"/>
            <a:ext cx="37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вотироксин (Т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Постпартални тиреоид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Учесталост: у 8-10% жена после порођ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зитивна корелација присуства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HLA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3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4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5 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-7 и ризика за појаву постпарталног тиреоидит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исбаланс ефекторских и регулаторних Т лимфоцита након порођаја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 </a:t>
            </a:r>
            <a:r>
              <a:rPr b="0" lang="sr-Latn-CS" sz="2600" spc="-1" strike="noStrike">
                <a:solidFill>
                  <a:srgbClr val="ff99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ff9900"/>
                </a:solidFill>
                <a:latin typeface="Palatino Linotype"/>
              </a:rPr>
              <a:t>антите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ећина пацијенткиња се враћа у еутиреоидно стање, иако 10-29% слу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ајева може прећи у перманентни или пролазни хипотиреоид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9996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Идиопатска тиреоидна атрофија (микседем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1600200"/>
            <a:ext cx="89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Palatino Linotype"/>
              </a:rPr>
              <a:t>Микседем</a:t>
            </a:r>
            <a:r>
              <a:rPr b="1" lang="sr-CS" sz="2800" spc="-1" strike="noStrike">
                <a:solidFill>
                  <a:srgbClr val="ff99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значава тешку форму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хипотир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оидизма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ада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депоновање муцинозне супстанце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зрокује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задебљање коже и поткожног тк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Чешће се јавља код 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тиологија: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ени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ени (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TLA-4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е п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остоји блиска веза са HLA-DR3 ге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Placeholder 2"/>
          <p:cNvSpPr/>
          <p:nvPr/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Механизми аутоимуности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ГЕНЕТСКА ОСНОВ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РЕЖИВЉАВАЊЕ АУТОРЕАКТИВНИХ Т ЛИМФОЦИТА У ТИМУСУ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ОСТОЈАЊЕ ДУАЛНИХ 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CR </a:t>
            </a: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НА Т ЛИМФОЦИТИМ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ОСМАТРАЧКА АКТИВАЦИЈА/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LR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АКТИВАЦИЈА АУТОРЕАКТИВНИХ В ЛИМФОЦИТА/</a:t>
            </a:r>
            <a:r>
              <a:rPr b="1" lang="sr-Latn-CS" sz="2400" spc="-1" strike="noStrike">
                <a:solidFill>
                  <a:srgbClr val="1f497d"/>
                </a:solidFill>
                <a:latin typeface="Palatino Linotype"/>
              </a:rPr>
              <a:t>TLR</a:t>
            </a: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 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МОЛЕКУЛАРНА МИМИКРИЈА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СЕКВЕСТРИРАНИ АНТИГЕНИ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1f497d"/>
                </a:solidFill>
                <a:latin typeface="Palatino Linotype"/>
              </a:rPr>
              <a:t>ПРЕКИД ПЕРИФЕРНЕ ТОЛЕРАНЦИЈ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Дијаг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44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Биопсија тиреоидне жлезде открива лимфоцитну инфилтрацију, фиброзу и атрофиј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Титар конвенционалних антитиреоидних антитела (анти </a:t>
            </a:r>
            <a:r>
              <a:rPr b="0" lang="sr-Latn-CS" sz="2600" spc="-1" strike="noStrike">
                <a:solidFill>
                  <a:srgbClr val="000000"/>
                </a:solidFill>
                <a:latin typeface="Palatino Linotype"/>
              </a:rPr>
              <a:t>TPO 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антитела и анти </a:t>
            </a:r>
            <a:r>
              <a:rPr b="0" lang="sr-Latn-CS" sz="2600" spc="-1" strike="noStrike">
                <a:solidFill>
                  <a:srgbClr val="000000"/>
                </a:solidFill>
                <a:latin typeface="Palatino Linotype"/>
              </a:rPr>
              <a:t>Tg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антитела)</a:t>
            </a:r>
            <a:r>
              <a:rPr b="0" lang="ru-RU" sz="2600" spc="-1" strike="noStrike">
                <a:solidFill>
                  <a:srgbClr val="000000"/>
                </a:solidFill>
                <a:latin typeface="Palatino Linotype"/>
              </a:rPr>
              <a:t> у серуму оболелих је приближан као и код оболелих од Хашимотовог тироидити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Присутна су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SHR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блокирајућа антитела (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) која спречавају раст и метаболизам тереоидне жлезд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Мајчина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BAb</a:t>
            </a:r>
            <a:r>
              <a:rPr b="0" lang="sr-CS" sz="2600" spc="-1" strike="noStrike">
                <a:solidFill>
                  <a:srgbClr val="000000"/>
                </a:solidFill>
                <a:latin typeface="Palatino Linotype"/>
              </a:rPr>
              <a:t> спречавају развој тереоидне жлезде плода што за последицу може да има настанак атиреоидног кретениз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f497d"/>
                </a:solidFill>
                <a:latin typeface="Palatino Linotype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евотироксин (Т4)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Лиотиронин (Т3) -тежи облик болести и  микседемска кома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35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972941"/>
                </a:solidFill>
                <a:latin typeface="Palatino Linotype"/>
              </a:rPr>
              <a:t>Етиологија и имунопатогенеза:</a:t>
            </a:r>
            <a:br>
              <a:rPr sz="4000"/>
            </a:br>
            <a:r>
              <a:rPr b="1" i="1" lang="en-US" sz="4000" spc="-1" strike="noStrike">
                <a:solidFill>
                  <a:srgbClr val="972941"/>
                </a:solidFill>
                <a:latin typeface="Palatino Linotype"/>
              </a:rPr>
              <a:t>Diabetes mellitus-</a:t>
            </a:r>
            <a:r>
              <a:rPr b="1" lang="sr-CS" sz="4000" spc="-1" strike="noStrike">
                <a:solidFill>
                  <a:srgbClr val="972941"/>
                </a:solidFill>
                <a:latin typeface="Palatino Linotype"/>
              </a:rPr>
              <a:t>а тип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је група метаболичких болести које карактерише </a:t>
            </a:r>
            <a:r>
              <a:rPr b="1" lang="en-US" sz="2400" spc="-1" strike="noStrike">
                <a:solidFill>
                  <a:srgbClr val="cc0000"/>
                </a:solidFill>
                <a:latin typeface="Palatino Linotype"/>
              </a:rPr>
              <a:t>хипергликем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тј. трајно повишење нива глукозе 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Хипергликемија узрокује класичне симптоме и знаке шећерне болести, а то су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ур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учестало мокрење),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дипс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појачана жеђ) 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полифагиј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појачана гл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Дијабетес настаје настаје због смањене секреције или смањеног биолошког дејства инсул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000000"/>
                </a:solidFill>
                <a:latin typeface="Palatino Linotype"/>
              </a:rPr>
              <a:t>Diabetes mel</a:t>
            </a: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l</a:t>
            </a:r>
            <a:r>
              <a:rPr b="0" i="1" lang="sr-Latn-CS" sz="4400" spc="-1" strike="noStrike">
                <a:solidFill>
                  <a:srgbClr val="000000"/>
                </a:solidFill>
                <a:latin typeface="Palatino Linotype"/>
              </a:rPr>
              <a:t>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тип 1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инсулин-зависни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DM, engl.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Insulin-Dependent 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јувенилни дијабетес) настаје као последица смањене продукције инсулина у панкреа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тип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сулин-независни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NIDDM, engl.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Non-Insulin-Dependent Diabetes Me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настаје услед смањеног биолошког дејства инсулина као последице развоја инсулинске резистенциј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Антигени и анти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току деструкције ћелија острваца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тигени панкреаса и инсулин могу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т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сут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у форми кој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 имунски систем препознај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као стран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чиме се мож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обј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ит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суство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уто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антител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д особа са дијабетесом типа 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Palatino Linotype"/>
              </a:rPr>
              <a:t>Антиген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који су најчешће удружени са овим обољењем су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GAD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Glutamic Acid Decarboxylas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IA-2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тирозин фосфат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ауто антитела је нејас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А</a:t>
            </a:r>
            <a:r>
              <a:rPr b="1" lang="en-US" sz="2000" spc="-1" strike="noStrike">
                <a:solidFill>
                  <a:srgbClr val="c00000"/>
                </a:solidFill>
                <a:latin typeface="Palatino Linotype"/>
              </a:rPr>
              <a:t>нтитела на панкреасна острвц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од енгл.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аnti-islet cell antibodi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Palatino Linotype"/>
              </a:rPr>
              <a:t>Инсулинска аутоантит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Palatino Linotype"/>
              </a:rPr>
              <a:t>Антитела на глутамат дехидрогеназу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glutamic acid decarboxylase 65 antibodi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- G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овремено присуство ICA и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других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аутоантитела може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да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укаже на будући развој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–а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тип 1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 ћелијски имунски одго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898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Т ћелијски имунски одговор заузима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централну улогу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у патогенези дијабетеса и одговоран је за деструкцију ћелија панкреасних острваца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Доминантне ћелије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које инфилтришу панкреасна острвц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у Т лимфоцити а нарочито активиран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CD8+ T лимф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Fig"/>
          <p:cNvPicPr/>
          <p:nvPr/>
        </p:nvPicPr>
        <p:blipFill>
          <a:blip r:embed="rId1"/>
          <a:srcRect l="0" t="0" r="0" b="6299"/>
          <a:stretch/>
        </p:blipFill>
        <p:spPr>
          <a:xfrm>
            <a:off x="4932360" y="1484280"/>
            <a:ext cx="3787920" cy="4969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Palatino Linotype"/>
              </a:rPr>
              <a:t>Имунопатогенеза </a:t>
            </a:r>
            <a:br>
              <a:rPr sz="3600"/>
            </a:br>
            <a:r>
              <a:rPr b="0" i="1" lang="sr-Latn-CS" sz="3600" spc="-1" strike="noStrike">
                <a:solidFill>
                  <a:srgbClr val="000000"/>
                </a:solidFill>
                <a:latin typeface="Palatino Linotype"/>
              </a:rPr>
              <a:t>diabetes mel</a:t>
            </a:r>
            <a:r>
              <a:rPr b="0" i="1" lang="en-US" sz="3600" spc="-1" strike="noStrike">
                <a:solidFill>
                  <a:srgbClr val="000000"/>
                </a:solidFill>
                <a:latin typeface="Palatino Linotype"/>
              </a:rPr>
              <a:t>l</a:t>
            </a:r>
            <a:r>
              <a:rPr b="0" i="1" lang="sr-Latn-CS" sz="3600" spc="-1" strike="noStrike">
                <a:solidFill>
                  <a:srgbClr val="000000"/>
                </a:solidFill>
                <a:latin typeface="Palatino Linotype"/>
              </a:rPr>
              <a:t>itus</a:t>
            </a:r>
            <a:r>
              <a:rPr b="0" lang="sr-Latn-CS" sz="3600" spc="-1" strike="noStrike">
                <a:solidFill>
                  <a:srgbClr val="000000"/>
                </a:solidFill>
                <a:latin typeface="Palatino Linotype"/>
              </a:rPr>
              <a:t>-а тип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Oрган-специфично </a:t>
            </a:r>
            <a:r>
              <a:rPr b="0" lang="sr-Latn-CS" sz="2400" spc="-1" strike="noStrike">
                <a:solidFill>
                  <a:srgbClr val="cc0000"/>
                </a:solidFill>
                <a:latin typeface="Palatino Linotype"/>
              </a:rPr>
              <a:t>аутоимунско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 обоље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Продукција инсулина изостаје услед специфичног имунског одговора и </a:t>
            </a:r>
            <a:r>
              <a:rPr b="0" lang="sr-Latn-CS" sz="2400" spc="-1" strike="noStrike">
                <a:solidFill>
                  <a:srgbClr val="cc0000"/>
                </a:solidFill>
                <a:latin typeface="Palatino Linotype"/>
              </a:rPr>
              <a:t>деструкције  β-ћел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Palatino Linotype"/>
              </a:rPr>
              <a:t>Инсул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нтензив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инфилтр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ци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Лангерхансов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острв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активирани CD4+ и CD8+ Т лимфоцити, макрофаг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редукован број β-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релативно осудан број α-ћелија које продукују глукаг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Figure 4"/>
          <p:cNvPicPr/>
          <p:nvPr/>
        </p:nvPicPr>
        <p:blipFill>
          <a:blip r:embed="rId1"/>
          <a:stretch/>
        </p:blipFill>
        <p:spPr>
          <a:xfrm>
            <a:off x="1646280" y="5654520"/>
            <a:ext cx="1255680" cy="1087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igure 1"/>
          <p:cNvPicPr/>
          <p:nvPr/>
        </p:nvPicPr>
        <p:blipFill>
          <a:blip r:embed="rId2"/>
          <a:stretch/>
        </p:blipFill>
        <p:spPr>
          <a:xfrm>
            <a:off x="3932280" y="5654520"/>
            <a:ext cx="1214280" cy="108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igure 3"/>
          <p:cNvPicPr/>
          <p:nvPr/>
        </p:nvPicPr>
        <p:blipFill>
          <a:blip r:embed="rId3"/>
          <a:stretch/>
        </p:blipFill>
        <p:spPr>
          <a:xfrm>
            <a:off x="6146640" y="5645160"/>
            <a:ext cx="12337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Иницијална фаза</a:t>
            </a: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43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 утицајем непознатих патогених агенаса, долази до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слобађања модификованих антиген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β ћелија, које потом преузим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ткивне DC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обрађују их и презентују у контексту MHC молекул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I клас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вако приказане антигене препозн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8+Т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имфоцити, активирају се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штећују β ћелиј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на којима препознају исту комбинацију антигена и MHC молекула  I клас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D8+ Т лимфоцити оштећују β ћелије секрецијом цитотоксичн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цитокин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IFN-γ, TNF-α), путем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директног контакт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Fas/FasL интеракцијом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ерфорин-гранзимским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ханизм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з оштећених β ћелиј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ослобађају се ћелијски антиг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G:\Doktorat\Nemanja diabetes.jpg"/>
          <p:cNvPicPr/>
          <p:nvPr/>
        </p:nvPicPr>
        <p:blipFill>
          <a:blip r:embed="rId1"/>
          <a:srcRect l="0" t="0" r="52788" b="36724"/>
          <a:stretch/>
        </p:blipFill>
        <p:spPr>
          <a:xfrm>
            <a:off x="5435640" y="1341360"/>
            <a:ext cx="3519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Иницијална фаза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455480"/>
            <a:ext cx="52560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ве антигене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р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зимај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незреле дендритичне ћелиј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у панкреасу и транспортују их до парапанкреатичн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лимфних чворов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, где их обрађују и презентују CD4+ Т лимфоцити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резентациј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антигена узрокује клонску експанзију аутореактивних ефекторских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4+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Т лимфоц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тореактивни ефекторски CD4+ Т лимфоцита на својој површини исказују различит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адхезивне молекул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(ICAM1, LFA1, и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хемокинске рецептор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: CCR4, CCR5, CXCR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ма антигенском градијенту и хемокинима насталим на месту почетне инфламације под утицајем CD8+ Т лимфоцита,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активирани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D4+ Т лимфоцит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cc0000"/>
                </a:solidFill>
                <a:latin typeface="Palatino Linotype"/>
              </a:rPr>
              <a:t>мигрирају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у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нкреасно тк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400720" y="1268280"/>
            <a:ext cx="3635280" cy="5040360"/>
            <a:chOff x="5400720" y="1268280"/>
            <a:chExt cx="3635280" cy="5040360"/>
          </a:xfrm>
        </p:grpSpPr>
        <p:pic>
          <p:nvPicPr>
            <p:cNvPr id="144" name="Picture 1" descr="G:\Doktorat\Nemanja diabetes.jpg"/>
            <p:cNvPicPr/>
            <p:nvPr/>
          </p:nvPicPr>
          <p:blipFill>
            <a:blip r:embed="rId1"/>
            <a:srcRect l="47014" t="0" r="0" b="12811"/>
            <a:stretch/>
          </p:blipFill>
          <p:spPr>
            <a:xfrm>
              <a:off x="5402160" y="1268280"/>
              <a:ext cx="363384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1"/>
            <p:cNvSpPr/>
            <p:nvPr/>
          </p:nvSpPr>
          <p:spPr>
            <a:xfrm>
              <a:off x="5400720" y="3644640"/>
              <a:ext cx="1008000" cy="26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pitope spreading in immune-mediated diseases: implications for immunotherapy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фекторска ф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фекторски CD4+ Т лимфоцити активирају и покрећу ћелије урођене и стечене имуности што омогућава развој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инсулитис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ве ћелије које инфилтришу острвца у раној фази инсулитиса су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макрофаги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и дендритичне ћелије, након њих следи инфилтрација Т, B лимфоцитима и NK ћелија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филтришуће ћелије секретују проинфламаторн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цитокин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L1-β, TNF-α и IFN-γ изазивају селективно разарање β ћелија индукцијом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проапоптотских сигнал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уз истовремено подстицање експресије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</a:rPr>
              <a:t>CD95 (Fas)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молекула на овим ћелијама</a:t>
            </a: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G:\Doktorat\Nemanja diabetes.jpg"/>
          <p:cNvPicPr/>
          <p:nvPr/>
        </p:nvPicPr>
        <p:blipFill>
          <a:blip r:embed="rId1"/>
          <a:srcRect l="0" t="76864" r="37116" b="0"/>
          <a:stretch/>
        </p:blipFill>
        <p:spPr>
          <a:xfrm>
            <a:off x="1332000" y="4714920"/>
            <a:ext cx="561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G:\Doktorat\Nemanja diabetes.jpg"/>
          <p:cNvPicPr/>
          <p:nvPr/>
        </p:nvPicPr>
        <p:blipFill>
          <a:blip r:embed="rId1"/>
          <a:stretch/>
        </p:blipFill>
        <p:spPr>
          <a:xfrm>
            <a:off x="289080" y="0"/>
            <a:ext cx="7812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Генетски фактор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179280" y="1557360"/>
            <a:ext cx="5977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ко 95% оболелих од дијабетеса у северној Европи поседују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R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R4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ко 40% белаца оболелих од IDDM типа 1 су DR3/DR4 хетерозиготи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ви алели су удружени са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HLA-DQ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варијантама алел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ритични фактор аминокиселина н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  <a:ea typeface="Arial"/>
              </a:rPr>
              <a:t>позицији 57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 на HLA-DQβ ланцу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LA-DQ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ели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Генетске варијације DQВ кој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ју </a:t>
            </a:r>
            <a:r>
              <a:rPr b="0" lang="en-US" sz="2000" spc="-1" strike="noStrike">
                <a:solidFill>
                  <a:srgbClr val="cc0000"/>
                </a:solidFill>
                <a:latin typeface="Palatino Linotype"/>
              </a:rPr>
              <a:t>аспартат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на овој позицији штите од развоја IDDM, док варијанте које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друге аминокиселине повећавају ризик од обољевањ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ми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окиселина на позицији 57 у HLA-DQβ ланцу је смештена у активном месту (жлебу) MHC молекула II класе и потенцијално може да утиче на </a:t>
            </a:r>
            <a:r>
              <a:rPr b="0" lang="en-US" sz="1800" spc="-1" strike="noStrike">
                <a:solidFill>
                  <a:srgbClr val="cc0000"/>
                </a:solidFill>
                <a:latin typeface="Palatino Linotype"/>
                <a:ea typeface="Arial"/>
              </a:rPr>
              <a:t>везивање критичног аутопептид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2" name="Picture 2" descr="Fig"/>
          <p:cNvPicPr/>
          <p:nvPr/>
        </p:nvPicPr>
        <p:blipFill>
          <a:blip r:embed="rId1"/>
          <a:srcRect l="0" t="0" r="0" b="5808"/>
          <a:stretch/>
        </p:blipFill>
        <p:spPr>
          <a:xfrm>
            <a:off x="6357960" y="1670040"/>
            <a:ext cx="2535120" cy="49989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Фактори спољашње среди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малом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броју случајева, дијабетес може бити у вези са специфичним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нфекцијам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а нарочито са оним вирусима (</a:t>
            </a:r>
            <a:r>
              <a:rPr b="1" lang="en-US" sz="2200" spc="-1" strike="noStrike">
                <a:solidFill>
                  <a:srgbClr val="000000"/>
                </a:solidFill>
                <a:latin typeface="Palatino Linotype"/>
              </a:rPr>
              <a:t>мумпс и коксаки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) за које се зна да показују </a:t>
            </a:r>
            <a:r>
              <a:rPr b="0" lang="en-US" sz="2200" spc="-1" strike="noStrike">
                <a:solidFill>
                  <a:srgbClr val="cc0000"/>
                </a:solidFill>
                <a:latin typeface="Palatino Linotype"/>
              </a:rPr>
              <a:t>тропизам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за панкреас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Међутим, само инфекција која је недвосмислено у вези са 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Diabetes mellitus-ом</a:t>
            </a: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тип 1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0" lang="en-US" sz="2200" spc="-1" strike="noStrike">
                <a:solidFill>
                  <a:srgbClr val="cc0000"/>
                </a:solidFill>
                <a:latin typeface="Palatino Linotype"/>
              </a:rPr>
              <a:t>конгенитална рубела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, која је данас веома рет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л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лифа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Умор и слаб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рчеви у мишић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оремећаји в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Периферне неуро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астроинтестиналне смет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3284280"/>
            <a:ext cx="5327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Улцерације на стопалима (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Ulcus cruris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икоз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кожа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ANd9GcTqIDAKecEdi8ZQaRQYdk-n8aEt4AvLC450mOXFzifRT171Dy456A"/>
          <p:cNvPicPr/>
          <p:nvPr/>
        </p:nvPicPr>
        <p:blipFill>
          <a:blip r:embed="rId1"/>
          <a:stretch/>
        </p:blipFill>
        <p:spPr>
          <a:xfrm>
            <a:off x="5940360" y="184464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iabetes-foot-ulcers-prevention"/>
          <p:cNvPicPr/>
          <p:nvPr/>
        </p:nvPicPr>
        <p:blipFill>
          <a:blip r:embed="rId2"/>
          <a:stretch/>
        </p:blipFill>
        <p:spPr>
          <a:xfrm>
            <a:off x="5940360" y="3789360"/>
            <a:ext cx="285768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 flipV="1">
            <a:off x="5076720" y="2997000"/>
            <a:ext cx="719280" cy="64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076720" y="3573360"/>
            <a:ext cx="576360" cy="64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кардиоваскуларни систем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бољења периферних крвних су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Хипер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Мождани уд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57240" y="-22320"/>
            <a:ext cx="239076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6" name="Picture 7" descr="19314"/>
          <p:cNvPicPr/>
          <p:nvPr/>
        </p:nvPicPr>
        <p:blipFill>
          <a:blip r:embed="rId1"/>
          <a:stretch/>
        </p:blipFill>
        <p:spPr>
          <a:xfrm>
            <a:off x="4500720" y="364500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57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Дијабетична ретинопа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Глау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Катара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оч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57240" y="-223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448080" y="241452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1" name="Picture 11" descr="non-proliferative_diabetic_retinopathy"/>
          <p:cNvPicPr/>
          <p:nvPr/>
        </p:nvPicPr>
        <p:blipFill>
          <a:blip r:embed="rId1"/>
          <a:stretch/>
        </p:blipFill>
        <p:spPr>
          <a:xfrm>
            <a:off x="5940360" y="1557360"/>
            <a:ext cx="2952720" cy="253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phototake_rm_photo_of_diabetic_retinopathy"/>
          <p:cNvPicPr/>
          <p:nvPr/>
        </p:nvPicPr>
        <p:blipFill>
          <a:blip r:embed="rId2"/>
          <a:stretch/>
        </p:blipFill>
        <p:spPr>
          <a:xfrm>
            <a:off x="5867280" y="4149720"/>
            <a:ext cx="3068640" cy="2525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cataract_img"/>
          <p:cNvPicPr/>
          <p:nvPr/>
        </p:nvPicPr>
        <p:blipFill>
          <a:blip r:embed="rId3"/>
          <a:stretch/>
        </p:blipFill>
        <p:spPr>
          <a:xfrm>
            <a:off x="395280" y="4869000"/>
            <a:ext cx="2476440" cy="1695240"/>
          </a:xfrm>
          <a:prstGeom prst="rect">
            <a:avLst/>
          </a:prstGeom>
          <a:ln w="0">
            <a:noFill/>
          </a:ln>
        </p:spPr>
      </p:pic>
      <p:sp>
        <p:nvSpPr>
          <p:cNvPr id="174" name="Line 4"/>
          <p:cNvSpPr/>
          <p:nvPr/>
        </p:nvSpPr>
        <p:spPr>
          <a:xfrm>
            <a:off x="1476360" y="3573360"/>
            <a:ext cx="0" cy="935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572000" y="2349360"/>
            <a:ext cx="1224000" cy="2159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572000" y="2349360"/>
            <a:ext cx="1152360" cy="28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572000" y="2349360"/>
            <a:ext cx="1224000" cy="21592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4572000" y="2349360"/>
            <a:ext cx="1152360" cy="2876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594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ијабетична полинеур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Симетрична поли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лирадикул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оно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Неуропатија аутономних нер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ми оштећења нер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Микроваскуларна оштећења vasa nervo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Нагомилавање масти у ћелијама које граде нервни омотач што ремети нормалну активност ових ћел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- Метаболичке поремећаје који ремете доток трансмитера и хранљивих материја у завршним деловима нер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Симпто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арестезије, губитак сензибилитета (чарапе-рукавице), бол, карпал-тунел синдром,успорена дигестија хране, диплопије....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-нерв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Foot%20Pic%204"/>
          <p:cNvPicPr/>
          <p:nvPr/>
        </p:nvPicPr>
        <p:blipFill>
          <a:blip r:embed="rId1"/>
          <a:stretch/>
        </p:blipFill>
        <p:spPr>
          <a:xfrm>
            <a:off x="6012000" y="2205000"/>
            <a:ext cx="3132000" cy="244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7163640" y="472428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ЕМГ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иво глукозе у крви (наташте;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lt;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TT (100g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укозе;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након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3h &lt; 7,8m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икозилирани хемоглобин -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bA1c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&lt;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лектролити у серу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Глукоза, кетонска тела и протеини у ур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Функционални поремећаји ендокриних жлезда настају услед њихове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повећане а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што за последицу има прекомерну продукцију хормона, или услед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атрофије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ендокриних жлезда због чега изостаје продукција релевантних хормо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Аутоимунске реакције могу бити усмерене против ендокриних ћелија, њихових рецептора, хормона или рецептора на циљаним ћелиј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Аутоанти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AA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GADA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A-2А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alatino Linotype"/>
              </a:rPr>
              <a:t>ICA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IF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3924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Уколико је нађено једно антитело које је повезано са дијабетесом ризик за појаву обољења је до 2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Ако је нађена комбинација антит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ICA + 2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антитела ил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GADA, IA-2A, IA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ризик за појав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расте на 9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3780000" y="1484280"/>
          <a:ext cx="5184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484280"/>
                    <a:ext cx="5184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Лечење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а тип 1 се заснива на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супституционој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терапији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нсули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тензив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Palatino Linotype"/>
              </a:rPr>
              <a:t>имуносупресивн</a:t>
            </a:r>
            <a:r>
              <a:rPr b="0" lang="sr-CS" sz="2400" spc="-1" strike="noStrike">
                <a:solidFill>
                  <a:srgbClr val="cc0000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терапиј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 одмах по постављању дијагно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клоспорин и моноклонска антит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моменту постављања дијагнозе очувано ј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мање од 10% β-ћел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У овим случајевима индуковање ремисије дијабетеса је ограниче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Palatino Linotype"/>
              </a:rPr>
              <a:t>Инс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убкутана админист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одификације инсул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брзо-делујући инсулин је модификован тако да ремети природну способност инсулина да формира хексамер, због чега се брзо абсорбује након субкутане администр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нису повезане са повећаним стварањем анти-инсулинских антитела. Резистенција на апликовани инсулин је ретко присутн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времено се јављају реакције преосетљивости на месту апликације инсул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промена форм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- додавање малих количина кортикистеро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Palatino Linotype"/>
              </a:rPr>
              <a:t>Имунска супресија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Cyclosporine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 А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инхибира синтезу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L-2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нтинуираносе ординира најмање 6-12 месеци. Најбољи резултати се постижу ако се са апликацијом почне у првих 6 недеља након дијагнозе болести. Лек је нефротоксич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Palatino Linotype"/>
              </a:rPr>
              <a:t>Аzatiopirine</a:t>
            </a:r>
            <a:r>
              <a:rPr b="0" lang="sr-CS" sz="2800" spc="-1" strike="noStrike">
                <a:solidFill>
                  <a:srgbClr val="ffc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нхибира пролиферацију Т и В лимфоцита и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K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ћелиј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35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ртикостерои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ronison</a:t>
            </a:r>
            <a:r>
              <a:rPr b="0" lang="sr-CS" sz="28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Object 7"/>
          <p:cNvGraphicFramePr/>
          <p:nvPr/>
        </p:nvGraphicFramePr>
        <p:xfrm>
          <a:off x="3527280" y="1341360"/>
          <a:ext cx="56167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1341360"/>
                    <a:ext cx="5616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8"/>
          <p:cNvSpPr/>
          <p:nvPr/>
        </p:nvSpPr>
        <p:spPr>
          <a:xfrm>
            <a:off x="3637080" y="638172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Buttgereit, </a:t>
            </a:r>
            <a:r>
              <a:rPr b="0" i="1" lang="sr-Latn-CS" sz="1800" spc="-1" strike="noStrike">
                <a:solidFill>
                  <a:srgbClr val="000000"/>
                </a:solidFill>
                <a:latin typeface="Palatino Linotype"/>
              </a:rPr>
              <a:t>et al.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 Scand. J. Rheum. 2005;34:14 -2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7640" y="149976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модификована анти-CD3 антител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TRX4, otelixizumab, teplizumab) блокира пролиферацију и диференцијацију Т лимфоцита и стимулише настанак Tregs.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Два дозна циклуса (8-12) на 6-12 месец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анти-CD20 антител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rituximab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 Инхибира презентацију аутоантигена Т лимфоцитима. Терапија траје 4 неде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а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нти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TLA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4 антитела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batacept).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есечна инфузија у периоду од 2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анти-тимоцитна антител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Thymoglobulin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tgam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. Смањује број Т лимфоцит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NF-R IgG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фузиони протеи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tanercept)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l-GR" sz="2400" spc="-1" strike="noStrike">
                <a:solidFill>
                  <a:srgbClr val="0000ff"/>
                </a:solidFill>
                <a:latin typeface="Palatino Linotype"/>
              </a:rPr>
              <a:t>IL-1</a:t>
            </a:r>
            <a:r>
              <a:rPr b="0" lang="sr-CS" sz="2400" spc="-1" strike="noStrike">
                <a:solidFill>
                  <a:srgbClr val="0000ff"/>
                </a:solidFill>
                <a:latin typeface="Palatino Linotype"/>
              </a:rPr>
              <a:t> рецептор антагонист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(IL-1ra) (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l-GR" sz="2400" spc="-1" strike="noStrike">
                <a:solidFill>
                  <a:srgbClr val="000000"/>
                </a:solidFill>
                <a:latin typeface="Palatino Linotype"/>
              </a:rPr>
              <a:t>nakin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Генетска ос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947520"/>
            <a:ext cx="9144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3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4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су удружени са чешћом појавом 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diabetes mellitus-а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 тип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 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а уочена је протективна улог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3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је предиспонирајући хаплотип за </a:t>
            </a:r>
            <a:r>
              <a:rPr b="1" i="1" lang="en-US" sz="2000" spc="-1" strike="noStrike">
                <a:solidFill>
                  <a:srgbClr val="ff9900"/>
                </a:solidFill>
                <a:latin typeface="Palatino Linotype"/>
              </a:rPr>
              <a:t>Graves</a:t>
            </a:r>
            <a:r>
              <a:rPr b="1" lang="en-US" sz="2000" spc="-1" strike="noStrike">
                <a:solidFill>
                  <a:srgbClr val="ff9900"/>
                </a:solidFill>
                <a:latin typeface="Palatino Linotype"/>
              </a:rPr>
              <a:t>-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ову болест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а протективну улогу им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</a:t>
            </a:r>
            <a:r>
              <a:rPr b="1" lang="sr-CS" sz="2000" spc="-1" strike="noStrike">
                <a:solidFill>
                  <a:srgbClr val="00cc00"/>
                </a:solidFill>
                <a:latin typeface="Palatino Linotyp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Palatino Linotype"/>
              </a:rPr>
              <a:t>DR3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удружен са чешћом појавом </a:t>
            </a:r>
            <a:r>
              <a:rPr b="1" i="1" lang="en-US" sz="2000" spc="-1" strike="noStrike">
                <a:solidFill>
                  <a:srgbClr val="ff9900"/>
                </a:solidFill>
                <a:latin typeface="Palatino Linotype"/>
              </a:rPr>
              <a:t>Hashimoto</a:t>
            </a:r>
            <a:r>
              <a:rPr b="1" lang="en-US" sz="2000" spc="-1" strike="noStrike">
                <a:solidFill>
                  <a:srgbClr val="0000ff"/>
                </a:solidFill>
                <a:latin typeface="Palatino Linotype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ог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иреоидит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00"/>
                </a:solidFill>
                <a:latin typeface="Palatino Linotype"/>
              </a:rPr>
              <a:t>DR</a:t>
            </a:r>
            <a:r>
              <a:rPr b="0" lang="sr-CS" sz="2000" spc="-1" strike="noStrike">
                <a:solidFill>
                  <a:srgbClr val="cc0000"/>
                </a:solidFill>
                <a:latin typeface="Palatino Linotype"/>
              </a:rPr>
              <a:t>5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је </a:t>
            </a: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удружен са чешћом појавом </a:t>
            </a:r>
            <a:r>
              <a:rPr b="1" lang="sr-CS" sz="2000" spc="-1" strike="noStrike">
                <a:solidFill>
                  <a:srgbClr val="ff9900"/>
                </a:solidFill>
                <a:latin typeface="Palatino Linotype"/>
              </a:rPr>
              <a:t>постпарталног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иреоидитиса, уочена је протективна улога </a:t>
            </a:r>
            <a:r>
              <a:rPr b="1" lang="sr-Latn-CS" sz="2000" spc="-1" strike="noStrike">
                <a:solidFill>
                  <a:srgbClr val="00cc00"/>
                </a:solidFill>
                <a:latin typeface="Palatino Linotype"/>
              </a:rPr>
              <a:t>DR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on-MHC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CTLA-4 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сулин зависни дијабетес, аутоимунске тиреоидне болести)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AIRE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аутоимунска полиендокринопатија-кандидијаза, ектодермална дистрофија,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APEC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FAS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лупус и вероватно аутоимунски тиреоидити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Удруженост аутоимунских ендокринопатија са инфективним агенс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утоимунски тиреоид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показани су виши нивои антитела на бактерије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Yersinia enterocolitica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Helicobacter pyl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ируси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CV,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CMV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EBV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Diabetes melitus-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а тип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Rubella, Mumps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ентерови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000000"/>
                </a:solidFill>
                <a:latin typeface="Times New Roman"/>
              </a:rPr>
              <a:t>Graves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ова бол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Честа аутоимунск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7 пута је чешћа код ж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Може да се јави у било ком периоду живота, али најчешће у четвртој деценији (од 35. до 40.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Palatino Linotype"/>
              </a:rPr>
              <a:t>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8108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Генетски фак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Palatino Linotype"/>
              </a:rPr>
              <a:t>MHC </a:t>
            </a:r>
            <a:r>
              <a:rPr b="1" lang="sr-CS" sz="3200" spc="-1" strike="noStrike">
                <a:solidFill>
                  <a:srgbClr val="000000"/>
                </a:solidFill>
                <a:latin typeface="Palatino Linotype"/>
              </a:rPr>
              <a:t>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 +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QB1*0201; DQA1*05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B1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Palatino Linotype"/>
              </a:rPr>
              <a:t>HLA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DR3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 је највероватније модулирајући ген који доприноси ефектима осталих предиспонирајућих гена повезаних са развојем </a:t>
            </a:r>
            <a:r>
              <a:rPr b="1" i="1" lang="en-US" sz="3500" spc="-1" strike="noStrike">
                <a:solidFill>
                  <a:srgbClr val="ff9900"/>
                </a:solidFill>
                <a:latin typeface="Palatino Linotype"/>
              </a:rPr>
              <a:t>Graves</a:t>
            </a:r>
            <a:r>
              <a:rPr b="1" lang="en-US" sz="3500" spc="-1" strike="noStrike">
                <a:solidFill>
                  <a:srgbClr val="ff9900"/>
                </a:solidFill>
                <a:latin typeface="Palatino Linotype"/>
              </a:rPr>
              <a:t>-</a:t>
            </a:r>
            <a:r>
              <a:rPr b="1" lang="sr-CS" sz="3500" spc="-1" strike="noStrike">
                <a:solidFill>
                  <a:srgbClr val="ff9900"/>
                </a:solidFill>
                <a:latin typeface="Palatino Linotype"/>
              </a:rPr>
              <a:t>ове </a:t>
            </a:r>
            <a:r>
              <a:rPr b="0" lang="sr-CS" sz="3200" spc="-1" strike="noStrike">
                <a:solidFill>
                  <a:srgbClr val="000000"/>
                </a:solidFill>
                <a:latin typeface="Palatino Linotype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0:37:30Z</dcterms:created>
  <dc:creator>User</dc:creator>
  <dc:description/>
  <dc:language>en-US</dc:language>
  <cp:lastModifiedBy>Sladja</cp:lastModifiedBy>
  <dcterms:modified xsi:type="dcterms:W3CDTF">2020-10-01T17:05:47Z</dcterms:modified>
  <cp:revision>151</cp:revision>
  <dc:subject/>
  <dc:title>Ендокрине болести механизми аутоимуности код ендокриних обољења </dc:title>
</cp:coreProperties>
</file>